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6273-DBCE-4B54-9DB5-109A32A2E6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7B449-6E1B-4D29-A54A-C72BBE08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AE48A-4605-43B1-987A-9B7A9F55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AD238-9AD9-4992-BD83-E6340CE63A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6A78-AE05-4511-87F5-9E637BD1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DE7A1-6ABA-4F66-BE9D-D169C7AE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0C588-4B00-4C85-BED6-B06F560F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E5BCD-A42A-4A84-8CCA-186E01E9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EC25E-5749-4CE4-9000-3BFE590B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96C4-7412-4F72-9F1B-91184F8C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B68D6-9DDA-4BD2-9174-B418005D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7A14-3059-4F88-8859-0F532BFB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D5CC-7AEE-4792-BFC4-A47B87B1548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消化性溃疡和胃炎的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小肠吸收，主要分布于胃肠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浆</a:t>
            </a: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单剂量生物利用度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5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g/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后可使胃酸分泌抑制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性溃疡和反流性食管炎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Q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十二指肠溃疡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和反流性食管炎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如恶心、呕吐等，停药可恢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、哺乳期妇女及肝肾功能不良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应用可能导致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乏，连续服用超过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年者应监测血清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食物会影响药物吸收，宜空腹服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与酸性环境易降解，故口服不可咀嚼，不可倾倒出胶囊内的内容物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具有肝药酶抑制作用，可延缓如地西泮、苯妥英钠、华法林、双香豆素等药物的代谢，与上述药物合用时，应酌减上述药物的用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7160" y="1700280"/>
          <a:ext cx="8737560" cy="4949640"/>
        </p:xfrm>
        <a:graphic>
          <a:graphicData uri="http://schemas.openxmlformats.org/drawingml/2006/table">
            <a:tbl>
              <a:tblPr/>
              <a:tblGrid>
                <a:gridCol w="1249200"/>
                <a:gridCol w="3527280"/>
                <a:gridCol w="3961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兰索拉唑（又称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埃索美拉唑（又称耐信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、十二指肠溃疡，反流性食管炎，卓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艾综合征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、消化性溃疡，联合其他药物可用于根除幽门螺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剂量用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 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~40mg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偶有皮疹、贫血、粒细胞改变、口渴、腹胀、便秘、头痛、嗜睡及肝脏损害；停药后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头痛、腹痛、腹泻等；皮肤瘙痒、荨麻疹等；停药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46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药疗监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高龄患者，因本药会导致患者胃酸分泌功能与其他生理功能降低；肝肾功能不全者、孕妇、哺乳期妇女慎用或不用；应先排除胃癌后再用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定期检测肝功能，定期进行内镜检查，观察病灶恢复情况；对本药或者奥美拉唑过敏者禁用；哺乳期妇女应避免使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下，在溃疡表面或溃疡基底肉芽组织上形成一种坚固的氧化铋胶体沉淀，隔绝胃酸、胃蛋白酶等对溃疡面的侵蚀，促进溃疡愈合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与胃蛋白酶发生络合反应，使之失活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促进碳酸氢盐和黏液分泌，增强胃黏膜防御力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刺激内源性前列腺素的合成和释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抑制幽门螺杆菌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及十二指肠溃疡、复合溃疡、多发溃疡、吻合口溃疡、慢性胃炎、糜烂性胃炎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胃内形成不溶性的氧化铋胶体沉淀，仅有少量铋剂可被吸收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被吸收的痕迹量的铋主要分布于肾等组织，经肾排泄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未被吸收的部分经粪便排出体外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缓解胃酸过多：口服，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3g  4ID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餐前半小时或睡前服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和慢性胃炎：疗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停药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如有必要可以再继续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连续使用不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口中有氨味，舌、粪呈黑色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恶心、呕吐、便秘等消化系统症状，停药后消失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血铋浓度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05</a:t>
            </a:r>
            <a:r>
              <a:rPr b="0" lang="en-US" sz="2000" spc="-1" strike="noStrike">
                <a:solidFill>
                  <a:srgbClr val="046ca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g/ml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有发生神经毒性的危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别患者可出现过敏，表现同荨麻疹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也有报道出现牙釉质粉状剥脱性损害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告知患者常见的副作用，如舌和粪便黑染，口中带氨味等，消除患者疑虑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后半小时不要进食牛奶或其他高蛋白食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应注意观察头痛、头晕、记忆力减退等神经系统表现，以防出现神经系统中毒或铋剂脑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长期使用（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&gt;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月）应监测肾功能，以防止小剂量蓄积，损害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过量抢救；及时洗胃、重复使用活性炭悬浮液及轻泻剂。监测血、尿铋浓度和肾功能。血铋浓度过高时，可使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琥珀酸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丙磺酸络合疗法治疗，必要时行血液透析治疗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酸分泌抑制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根除幽门螺杆菌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动力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果胶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碱式果胶酸铋钾、维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作用机制类似于胶体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及十二指肠溃疡、慢性浅表性胃炎、慢性萎缩性胃炎和消化道出血，根除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P 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餐前和睡前服用；治疗消化道出血宜倾倒出胶囊内容物，用水搅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硫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溃宁、迪先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广泛聚合为粘稠的多聚体，可牢固粘着于上皮细胞和溃疡表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吸收少，作用持续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主要用于治疗胃炎、胃、十二指肠溃疡以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饭前或睡前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轻。长期大量服用应监测血清铝浓度；过敏或哺乳期妇女不宜使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吉法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合欢香叶酯，胃家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直接作用于胃黏膜上皮细胞，促进其新陈代谢，增强其抗溃疡的能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和十二指肠溃疡，急、慢性胃炎、胃痉挛和结肠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米索前列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喜克溃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烈抑制基础胃酸分泌、刺激胃酸分泌量；增加黏膜血流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及十二指肠溃疡的治疗，以及预防非甾体抗炎药引起的出血性消化性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或睡前服用；不良反应少，停药后好转；孕妇及对前列腺素过敏者禁用；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三节   抗酸药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和胃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促进前列腺素合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及十二指肠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、慢性胃炎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酸过多有关的胃部不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溶于水，口服后不吸收，体内无各种成分的蓄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使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~1.0g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；十二指肠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偶有腹泻、口渴、食欲下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过敏、胃酸缺乏、接受结肠或回肠造口术者、慢性腹泻换患者、肠梗阻患者等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肠蠕动功能不良以及严重肝功能障碍者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片剂或咀嚼片宜嚼碎服用，悬胶剂宜混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严重肾功能障碍者长期服用应监测血铝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环丙沙星、氧氟沙星、含铁的药物、抗凝药物、地高辛、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等，在服用时应与本品间隔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由于含铝、镁两种金属离子，从而相互抵消了便秘和腹泻的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氢氧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弱碱性药物，中和胃酸；胃液混合形成的凝胶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、十二指肠溃疡、胃食管反流性疾病和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后服用作用时间可达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大部分自粪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便秘，严重时可引起肠梗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便秘者慎用；肾功能不全患者应注意铝在体内的蓄积；片剂宜嚼碎服用，凝胶剂宜混匀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一节   胃酸分泌抑制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小苏打，重碳酸钠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能迅速中和胃酸，减轻疼痛，能碱化尿液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多种原因引起的胃酸分泌过多。静脉使用可用于代谢性酸血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碱化尿液的作用对解救苯巴比妥、阿斯匹林等药物中毒有一定价值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中和胃酸时产生大量二氧化碳，可刺激溃疡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充血性心力衰竭、水肿、肾功能衰竭患者酸中毒时使用本药应慎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氧化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，且缓慢而持久，不产生二氧化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适用于伴有便秘的胃酸过多症、胃及十二指肠溃疡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功能不全者服后可造成蓄积中毒，应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钙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而持久，起效快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酸过多以及消化性溃疡的辅助治疗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药长期服用可能可发生高钙血症，故不应长期、大量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四节   根除幽门螺杆菌方案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理想的根除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除率高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以上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副作用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疗程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价格合理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溃疡的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如质子泵抑制剂、铋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菌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、甲硝唑、呋喃唑酮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铋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计量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四环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铋剂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枸橼酸铋钾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2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果胶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：每日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共用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子泵抑制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埃索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雷贝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兰索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奥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次，共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方案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其他方案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或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两种抗生素组成四联疗法，多用于其他方案失败的病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五节   胃动力药物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增加胃肠道动力，促进胃排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止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不良、腹胀、嗳气、恶心、呕吐以及腹部胀痛，胃肠反流性疾病，慢性胃炎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脏代谢，半衰期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肌肉注射或直肠给药均易吸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存在“首过效应”，口服生物利用度较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片剂： 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混悬液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ml  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可存进催乳激素的释放药，部分更年期后的妇女及男性患者可出现乳房胀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嗜铬细胞瘤、乳癌、机械性肠梗阻、胃肠出血、对本品过敏者等患者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~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口服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剂和抑制胃酸分泌药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山莨菪碱、颠茄等抗胆碱能药物会减弱本品的作用，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，哺乳期妇女使用本品期间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胃舒达，高舒达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竞争性占领胃黏膜细胞基膜上的组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，阻断组胺促进胃酸分泌的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效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刺激条件下引起胃酸分泌的抑制作用弱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胃十二指肠溃疡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静脉：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西沙必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普瑞博思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全胃肠动力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于治疗胃轻瘫、胃食管反流、假性肠梗阻导致的推进性蠕动不足和胃肠内容物滞留及慢性便秘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瞬时性胃肠痉挛，肠鸣或腹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不全、老年人应减量或不用，有过敏史者、孕妇、哺乳期妇女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氯普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复安、灭吐灵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枢性止吐、促进消化道蠕动、促进催乳素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肿瘤化疗、放射治疗、手术后及胃肠功能失调等引起的恶心、呕吐；反流性食管炎及胃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倦怠、嗜睡、头晕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大剂量、长期使用因阻断中枢多巴胺受体而致锥体外系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用于嗜铬细胞瘤、癫痫、乳癌患者放疗和化疗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血药浓度达高峰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物利用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通过胎盘屏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原型自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维持治疗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QN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静脉滴注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溶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l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生理盐水或葡萄糖液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&gt;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头痛、头晕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受损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应用应排除胃肠肿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哺乳期妇女应用时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氢氧化铝、镁等抗酸剂可降低法莫替丁的生物利用度和血药浓度，故二者不宜合用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6000" y="1700280"/>
          <a:ext cx="8928000" cy="4732200"/>
        </p:xfrm>
        <a:graphic>
          <a:graphicData uri="http://schemas.openxmlformats.org/drawingml/2006/table">
            <a:tbl>
              <a:tblPr/>
              <a:tblGrid>
                <a:gridCol w="792000"/>
                <a:gridCol w="4103640"/>
                <a:gridCol w="4032360"/>
              </a:tblGrid>
              <a:tr h="59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基础胃酸的抑制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的组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 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受体拮抗剂，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和十二指肠溃疡、应激性溃疡、上消化出血；预防化学性腐蚀性胃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术后溃疡、反流性食管炎等；静脉用药可治上消化道出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体内过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血药浓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达峰；生物利用度高；</a:t>
                      </a:r>
                      <a:r>
                        <a:rPr b="0" i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生物利用度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%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，作用持续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服用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2 t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4 QN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6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一疗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B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维持量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QD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3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和监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胀、腹泻、口苦、口干等消化道反应；头晕、乏力、嗜睡等神经系统反应；对骨髓有抑制，应定期查血象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通过胎盘屏障，不宜用于孕妇、哺乳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副作用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严重肝肾功能受损者应调节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长期应用降低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VitB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及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洛赛克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刺激胃酸分泌：作用强大持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幽门螺杆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、卓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艾综合征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3:15Z</dcterms:modified>
  <cp:revision>115</cp:revision>
  <dc:subject/>
  <dc:title>内科护理学</dc:title>
</cp:coreProperties>
</file>